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5.gif" ContentType="image/gif"/>
  <Override PartName="/ppt/media/image6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8.wmf" ContentType="image/x-wmf"/>
  <Override PartName="/ppt/media/image17.gif" ContentType="image/gif"/>
  <Override PartName="/ppt/media/image16.jpeg" ContentType="image/jpeg"/>
  <Override PartName="/ppt/media/image7.jpeg" ContentType="image/jpeg"/>
  <Override PartName="/ppt/media/image12.jpeg" ContentType="image/jpeg"/>
  <Override PartName="/ppt/media/image14.wmf" ContentType="image/x-wmf"/>
  <Override PartName="/ppt/media/image3.gif" ContentType="image/gif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847F-BD89-48D6-873F-6D4B556B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092B-9998-45F1-837F-1EAFC886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3F9-68BE-448B-8B2E-A3753451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FE9-9A79-405B-8400-E3D078BC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A36-33CF-4656-907D-5C8C8331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1FB-990D-4FC6-91DA-8F209857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018-685B-4C02-AD13-1AA6F65C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24A-2E52-410D-80E2-FCA43890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505-CA73-4A90-B932-9EB9F391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0D0-855B-4831-A974-5B2F8445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C491-D90D-4086-BEB3-12E4EDA7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A57-CBED-44AB-99CD-B55FEEE9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3C3D-5ACD-40D7-B59F-DF05A6334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Looking back down the trail on the way to Baldy Mtn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flipH="1" rot="20258400">
            <a:off x="6400440" y="4800240"/>
            <a:ext cx="1828800" cy="1108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257800" y="4800600"/>
            <a:ext cx="1828800" cy="1393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 flipH="1" rot="61800">
            <a:off x="4494960" y="480060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581280" y="4343400"/>
            <a:ext cx="171000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1722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05120" y="304920"/>
            <a:ext cx="53816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80808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Come Play In The Dir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808080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5105520"/>
            <a:ext cx="914400" cy="60948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257800"/>
            <a:ext cx="914400" cy="60948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4800600"/>
            <a:ext cx="914400" cy="60948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800600"/>
            <a:ext cx="914400" cy="60948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5562720"/>
            <a:ext cx="914400" cy="60948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5486400"/>
            <a:ext cx="914400" cy="60948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5867280"/>
            <a:ext cx="914400" cy="60984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5867280"/>
            <a:ext cx="914400" cy="60984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5638680"/>
            <a:ext cx="914400" cy="60984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938320" y="2781360"/>
            <a:ext cx="3267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Arial Black"/>
              </a:rPr>
              <a:t>ride the new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100000">
                    <a:srgbClr val="6633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Arial Black"/>
              </a:rPr>
              <a:t>25-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100000">
                    <a:srgbClr val="6633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33520" y="289548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Impact"/>
              </a:rPr>
              <a:t>Open from 6 am - 10 pm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179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828800" y="1828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your fami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373680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3505320" cy="3211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3486240"/>
            <a:ext cx="4724280" cy="3371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to all bi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t 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tain 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367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ra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mp and h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95280" y="4038480"/>
            <a:ext cx="857520" cy="952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 rot="3211200">
            <a:off x="1927800" y="3634200"/>
            <a:ext cx="20160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3520" y="2971800"/>
            <a:ext cx="2819160" cy="1830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362320" y="3276720"/>
            <a:ext cx="6581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Impact"/>
              </a:rPr>
              <a:t>Come And Have  A Good Ti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663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40:56Z</dcterms:created>
  <dc:creator>766935</dc:creator>
  <dc:description/>
  <dc:language>en-US</dc:language>
  <cp:lastModifiedBy>766935</cp:lastModifiedBy>
  <dcterms:modified xsi:type="dcterms:W3CDTF">2009-03-30T15:55:14Z</dcterms:modified>
  <cp:revision>5</cp:revision>
  <dc:subject/>
  <dc:title>Slide 1</dc:title>
</cp:coreProperties>
</file>